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967-2CA0-4072-A489-D94A6B2D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8DD-B07D-4BB5-B8B8-9047E528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99D-DFD4-4D6A-A553-75924F1B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6EA-9C69-4099-8F0D-7023CA5A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C2A-C78F-4851-819B-F34371BB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84F-7BD0-4D8A-9495-6F8D0FBD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879-1A35-4E50-845C-19723B99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47B6-3676-4F71-809C-7E555D41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636-11E9-47EE-90D7-1BC8B4F8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614-52A3-483C-AB03-DD7CC5ED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504-F183-4247-9A54-CF01F360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D33-747E-4F70-A61E-C49482DA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C496-E33D-47EF-962B-03B92C372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ilecab3"/>
          <p:cNvSpPr/>
          <p:nvPr/>
        </p:nvSpPr>
        <p:spPr>
          <a:xfrm>
            <a:off x="0" y="476280"/>
            <a:ext cx="3203640" cy="12682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ubL"/>
          <p:cNvSpPr/>
          <p:nvPr/>
        </p:nvSpPr>
        <p:spPr>
          <a:xfrm>
            <a:off x="1332000" y="1628640"/>
            <a:ext cx="1274760" cy="1419480"/>
          </a:xfrm>
          <a:custGeom>
            <a:avLst/>
            <a:gdLst>
              <a:gd name="textAreaLeft" fmla="*/ 0 w 1274760"/>
              <a:gd name="textAreaRight" fmla="*/ 1275120 w 1274760"/>
              <a:gd name="textAreaTop" fmla="*/ 709920 h 1419480"/>
              <a:gd name="textAreaBottom" fmla="*/ 1419840 h 141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ubPieSlice"/>
          <p:cNvSpPr/>
          <p:nvPr/>
        </p:nvSpPr>
        <p:spPr>
          <a:xfrm>
            <a:off x="1692360" y="2565360"/>
            <a:ext cx="182880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desklamp"/>
          <p:cNvSpPr/>
          <p:nvPr/>
        </p:nvSpPr>
        <p:spPr>
          <a:xfrm>
            <a:off x="3492360" y="2924280"/>
            <a:ext cx="905040" cy="9046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851280" y="2997360"/>
            <a:ext cx="1481040" cy="1527120"/>
            <a:chOff x="3851280" y="2997360"/>
            <a:chExt cx="1481040" cy="1527120"/>
          </a:xfrm>
        </p:grpSpPr>
        <p:sp>
          <p:nvSpPr>
            <p:cNvPr id="46" name="Gear"/>
            <p:cNvSpPr/>
            <p:nvPr/>
          </p:nvSpPr>
          <p:spPr>
            <a:xfrm>
              <a:off x="4672440" y="2997360"/>
              <a:ext cx="659880" cy="700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51280" y="3285720"/>
              <a:ext cx="789120" cy="837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62840" y="3594600"/>
              <a:ext cx="876960" cy="929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able"/>
          <p:cNvSpPr/>
          <p:nvPr/>
        </p:nvSpPr>
        <p:spPr>
          <a:xfrm>
            <a:off x="4932360" y="4005360"/>
            <a:ext cx="1295280" cy="1224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ile"/>
          <p:cNvSpPr/>
          <p:nvPr/>
        </p:nvSpPr>
        <p:spPr>
          <a:xfrm>
            <a:off x="6084720" y="4653000"/>
            <a:ext cx="1592280" cy="1152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bb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 rot="10800000">
            <a:off x="7380360" y="5300640"/>
            <a:ext cx="1504800" cy="1417680"/>
          </a:xfrm>
          <a:prstGeom prst="rect">
            <a:avLst/>
          </a:prstGeom>
          <a:ln w="0">
            <a:noFill/>
          </a:ln>
        </p:spPr>
      </p:pic>
      <p:sp>
        <p:nvSpPr>
          <p:cNvPr id="52" name="desk2"/>
          <p:cNvSpPr/>
          <p:nvPr/>
        </p:nvSpPr>
        <p:spPr>
          <a:xfrm>
            <a:off x="7704000" y="2924280"/>
            <a:ext cx="1440000" cy="13777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7687800">
            <a:off x="8153640" y="1213560"/>
            <a:ext cx="755640" cy="1728720"/>
          </a:xfrm>
          <a:custGeom>
            <a:avLst/>
            <a:gdLst>
              <a:gd name="textAreaLeft" fmla="*/ 101160 w 755640"/>
              <a:gd name="textAreaRight" fmla="*/ 654480 w 755640"/>
              <a:gd name="textAreaTop" fmla="*/ 302400 h 1728720"/>
              <a:gd name="textAreaBottom" fmla="*/ 12535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esk1"/>
          <p:cNvSpPr/>
          <p:nvPr/>
        </p:nvSpPr>
        <p:spPr>
          <a:xfrm rot="12588600">
            <a:off x="7163640" y="4941000"/>
            <a:ext cx="1120680" cy="3812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ck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ubHalfFrame"/>
          <p:cNvSpPr/>
          <p:nvPr/>
        </p:nvSpPr>
        <p:spPr>
          <a:xfrm rot="16200000">
            <a:off x="2195280" y="3933360"/>
            <a:ext cx="770040" cy="1201680"/>
          </a:xfrm>
          <a:custGeom>
            <a:avLst/>
            <a:gdLst>
              <a:gd name="textAreaLeft" fmla="*/ 0 w 770040"/>
              <a:gd name="textAreaRight" fmla="*/ 513360 w 770040"/>
              <a:gd name="textAreaTop" fmla="*/ 0 h 1201680"/>
              <a:gd name="textAreaBottom" fmla="*/ 400680 h 12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ubHalfFrame"/>
          <p:cNvSpPr/>
          <p:nvPr/>
        </p:nvSpPr>
        <p:spPr>
          <a:xfrm rot="5400000">
            <a:off x="2914920" y="4509360"/>
            <a:ext cx="576360" cy="863640"/>
          </a:xfrm>
          <a:custGeom>
            <a:avLst/>
            <a:gdLst>
              <a:gd name="textAreaLeft" fmla="*/ 0 w 576360"/>
              <a:gd name="textAreaRight" fmla="*/ 384480 w 576360"/>
              <a:gd name="textAreaTop" fmla="*/ 0 h 863640"/>
              <a:gd name="textAreaBottom" fmla="*/ 28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ilecab2"/>
          <p:cNvSpPr/>
          <p:nvPr/>
        </p:nvSpPr>
        <p:spPr>
          <a:xfrm>
            <a:off x="6084720" y="1989000"/>
            <a:ext cx="2592720" cy="1224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 wate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iagonalStripe"/>
          <p:cNvSpPr/>
          <p:nvPr/>
        </p:nvSpPr>
        <p:spPr>
          <a:xfrm rot="10800000">
            <a:off x="5940000" y="-360"/>
            <a:ext cx="1901880" cy="1989000"/>
          </a:xfrm>
          <a:custGeom>
            <a:avLst/>
            <a:gdLst>
              <a:gd name="textAreaLeft" fmla="*/ 0 w 1901880"/>
              <a:gd name="textAreaRight" fmla="*/ 1431360 w 1901880"/>
              <a:gd name="textAreaTop" fmla="*/ 0 h 1989000"/>
              <a:gd name="textAreaBottom" fmla="*/ 1497240 h 1989000"/>
            </a:gdLst>
            <a:ahLst/>
            <a:rect l="textAreaLeft" t="textAreaTop" r="textAreaRight" b="textAreaBottom"/>
            <a:pathLst>
              <a:path w="21600" h="21600">
                <a:moveTo>
                  <a:pt x="10914" y="0"/>
                </a:moveTo>
                <a:lnTo>
                  <a:pt x="0" y="10914"/>
                </a:lnTo>
              </a:path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ilm"/>
          <p:cNvSpPr/>
          <p:nvPr/>
        </p:nvSpPr>
        <p:spPr>
          <a:xfrm rot="5400000">
            <a:off x="4195440" y="4021200"/>
            <a:ext cx="327240" cy="2600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115920"/>
            <a:ext cx="71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0"/>
            <a:ext cx="934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esk1"/>
          <p:cNvSpPr/>
          <p:nvPr/>
        </p:nvSpPr>
        <p:spPr>
          <a:xfrm rot="9169800">
            <a:off x="6658920" y="4220640"/>
            <a:ext cx="1120680" cy="3812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ubRRectCallout"/>
          <p:cNvSpPr/>
          <p:nvPr/>
        </p:nvSpPr>
        <p:spPr>
          <a:xfrm rot="10800000">
            <a:off x="7797600" y="-387720"/>
            <a:ext cx="1346040" cy="1482840"/>
          </a:xfrm>
          <a:custGeom>
            <a:avLst/>
            <a:gdLst>
              <a:gd name="textAreaLeft" fmla="*/ 9000 w 1346040"/>
              <a:gd name="textAreaRight" fmla="*/ 1334160 w 1346040"/>
              <a:gd name="textAreaTop" fmla="*/ 9720 h 1482840"/>
              <a:gd name="textAreaBottom" fmla="*/ 1174320 h 14828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7081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981000"/>
            <a:ext cx="36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2360" y="2276640"/>
            <a:ext cx="287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479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5300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08720" y="472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4508640"/>
            <a:ext cx="64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32720" y="443664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4797360"/>
            <a:ext cx="647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8244000" y="2852640"/>
            <a:ext cx="720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588000" y="1052640"/>
            <a:ext cx="64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236000" y="333360"/>
            <a:ext cx="720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4360" y="907920"/>
            <a:ext cx="37814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rom the water tank, the rubbish is removed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2535120" y="3376440"/>
            <a:ext cx="1460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oil and sand are recyc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5805360"/>
            <a:ext cx="59338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lters get rid of toxic chemicals which are harmful to our environment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093080" y="5805360"/>
            <a:ext cx="158112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ocks are recycled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23:16:41Z</dcterms:created>
  <dc:creator>Primary School</dc:creator>
  <dc:description/>
  <dc:language>en-US</dc:language>
  <cp:lastModifiedBy>Primary School</cp:lastModifiedBy>
  <dcterms:modified xsi:type="dcterms:W3CDTF">2009-06-10T00:32:23Z</dcterms:modified>
  <cp:revision>4</cp:revision>
  <dc:subject/>
  <dc:title>Slide 1</dc:title>
</cp:coreProperties>
</file>